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096-A9E9-4DBD-8712-B1863D60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E07-1992-4165-B0EA-BDA71E72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284-CC9F-411D-AC3A-E1C772E6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615-4132-4D18-82DD-07EC3D90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7DA-307A-4EF7-BD61-E655E2C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998-4B3D-49E9-906F-789F7DD5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B7E-9B40-4945-BA2E-88828E0F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91F-F31C-429D-9B9B-04AE6DB1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9B1-6CB1-4048-A33C-2A07BA87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D17-6B82-4757-990D-F7F43AD9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807-5D60-4BDE-B5EE-15966745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F3F-E927-4C84-A0A3-2D334541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BC8D-B7B0-4DF2-8E14-B13949E60C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Chesapeake Ba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7480" y="1563840"/>
            <a:ext cx="2757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st US est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5320" y="3209760"/>
            <a:ext cx="3787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vely sha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7480" y="4370400"/>
            <a:ext cx="3771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“flushing” action to Atlan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080" y="6018120"/>
            <a:ext cx="65613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roblems with dissolved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35800" y="1298520"/>
            <a:ext cx="5301720" cy="4541760"/>
            <a:chOff x="3835800" y="1298520"/>
            <a:chExt cx="5301720" cy="4541760"/>
          </a:xfrm>
        </p:grpSpPr>
        <p:grpSp>
          <p:nvGrpSpPr>
            <p:cNvPr id="282" name=""/>
            <p:cNvGrpSpPr/>
            <p:nvPr/>
          </p:nvGrpSpPr>
          <p:grpSpPr>
            <a:xfrm>
              <a:off x="3884760" y="1298520"/>
              <a:ext cx="5170320" cy="4027320"/>
              <a:chOff x="3884760" y="1298520"/>
              <a:chExt cx="5170320" cy="402732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84760" y="1298520"/>
                <a:ext cx="5159880" cy="40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3884760" y="1404000"/>
                <a:ext cx="5170320" cy="3915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875040" y="5418000"/>
              <a:ext cx="5262480" cy="422280"/>
              <a:chOff x="3875040" y="5418000"/>
              <a:chExt cx="5262480" cy="4222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875040" y="5460840"/>
                <a:ext cx="3632400" cy="144360"/>
                <a:chOff x="3875040" y="5460840"/>
                <a:chExt cx="3632400" cy="144360"/>
              </a:xfrm>
            </p:grpSpPr>
            <p:pic>
              <p:nvPicPr>
                <p:cNvPr id="2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84040" y="5460840"/>
                  <a:ext cx="362340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"/>
                <p:cNvSpPr/>
                <p:nvPr/>
              </p:nvSpPr>
              <p:spPr>
                <a:xfrm>
                  <a:off x="3875040" y="5465160"/>
                  <a:ext cx="325440" cy="133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479560" y="5460840"/>
                  <a:ext cx="320760" cy="132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176240" y="5465160"/>
                  <a:ext cx="325440" cy="133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205520" y="5418000"/>
                <a:ext cx="4932000" cy="422280"/>
                <a:chOff x="4205520" y="5418000"/>
                <a:chExt cx="4932000" cy="422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205520" y="5418000"/>
                  <a:ext cx="8344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raina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bas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808240" y="5418000"/>
                  <a:ext cx="960840" cy="25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o oxy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515000" y="5418000"/>
                  <a:ext cx="1622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Low concentr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of oxy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4088520" y="2344680"/>
              <a:ext cx="127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NNSYLVAN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73880" y="1490400"/>
              <a:ext cx="95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35800" y="3817800"/>
              <a:ext cx="803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IRGIN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5240" y="3427200"/>
              <a:ext cx="979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RYL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70120" y="3887640"/>
              <a:ext cx="986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LAWA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50240" y="3220920"/>
              <a:ext cx="730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JERSE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32920" y="2793960"/>
              <a:ext cx="878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ATLAN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92840" y="5064120"/>
              <a:ext cx="803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IRGIN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92440" y="1401480"/>
              <a:ext cx="1075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operstow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96560" y="2904840"/>
              <a:ext cx="89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arrisbur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01760" y="3601800"/>
              <a:ext cx="828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ltimo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71000" y="3863880"/>
              <a:ext cx="98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ashing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32040" y="4662360"/>
              <a:ext cx="86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ichmo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21960" y="5091120"/>
              <a:ext cx="671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rfol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79960" y="5081400"/>
              <a:ext cx="1245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Chesapeake B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13, p. 4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pil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80" y="1143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s:  offshore wells, tankers, pipelines and storage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480" y="242712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:  death of organisms, loss of animal insulation and buoyancy, smo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80" y="3713040"/>
            <a:ext cx="9056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gnificant economic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480" y="451008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chanical cleanup methods: skimmers and blo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7480" y="5796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emical cleanup methods:  coagulants and dispers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Preventing and Reducing Surface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8840" y="1736640"/>
            <a:ext cx="403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87320" y="1738440"/>
            <a:ext cx="315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30960" y="2963880"/>
            <a:ext cx="374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34920" y="3886200"/>
            <a:ext cx="324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ffer zone veg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32760" y="5457960"/>
            <a:ext cx="480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soil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76960" y="29638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 Water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76600" y="3886200"/>
            <a:ext cx="466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ptic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40" y="1481040"/>
            <a:ext cx="909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quire suitable soils and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40440" y="2162160"/>
            <a:ext cx="6980760" cy="4695840"/>
            <a:chOff x="640440" y="2162160"/>
            <a:chExt cx="6980760" cy="469584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685800" y="2162160"/>
              <a:ext cx="6935400" cy="4695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32" name=""/>
            <p:cNvSpPr/>
            <p:nvPr/>
          </p:nvSpPr>
          <p:spPr>
            <a:xfrm>
              <a:off x="640440" y="4950000"/>
              <a:ext cx="11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ouseho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te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1960" y="5468760"/>
              <a:ext cx="107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o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22640" y="5510160"/>
              <a:ext cx="1293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x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optional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41680" y="3203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ptic t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71760" y="4308480"/>
              <a:ext cx="124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hole (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ou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79040" y="5357880"/>
              <a:ext cx="6364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r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72800" y="58071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nt pi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90360" y="4232160"/>
              <a:ext cx="140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perfo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66400" y="5413320"/>
              <a:ext cx="9655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avel 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u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04920" y="4064040"/>
              <a:ext cx="0" cy="87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736280" y="561672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357720" y="5400720"/>
              <a:ext cx="4582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38720" y="6089760"/>
              <a:ext cx="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419720" y="4485960"/>
              <a:ext cx="105984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14, p. 4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80" y="1481040"/>
            <a:ext cx="857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chanical and biologic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2119320"/>
            <a:ext cx="9144000" cy="4738680"/>
            <a:chOff x="0" y="2119320"/>
            <a:chExt cx="9144000" cy="4738680"/>
          </a:xfrm>
        </p:grpSpPr>
        <p:grpSp>
          <p:nvGrpSpPr>
            <p:cNvPr id="351" name=""/>
            <p:cNvGrpSpPr/>
            <p:nvPr/>
          </p:nvGrpSpPr>
          <p:grpSpPr>
            <a:xfrm>
              <a:off x="0" y="2125800"/>
              <a:ext cx="9144000" cy="4732200"/>
              <a:chOff x="0" y="2125800"/>
              <a:chExt cx="9144000" cy="4732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125800"/>
                <a:ext cx="9144000" cy="473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130560"/>
                <a:ext cx="7683480" cy="350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4" name=""/>
            <p:cNvSpPr/>
            <p:nvPr/>
          </p:nvSpPr>
          <p:spPr>
            <a:xfrm>
              <a:off x="164880" y="4206960"/>
              <a:ext cx="1159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aw sew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om sew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7600" y="2846520"/>
              <a:ext cx="1031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ar scre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66920" y="2665440"/>
              <a:ext cx="866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r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hamb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5560" y="2846520"/>
              <a:ext cx="1168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ttling ta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7320" y="2846520"/>
              <a:ext cx="1232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eration ta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11040" y="2846520"/>
              <a:ext cx="1168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ttling ta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06600" y="2665440"/>
              <a:ext cx="148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infection ta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08480" y="4405320"/>
              <a:ext cx="729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lud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600" y="5230800"/>
              <a:ext cx="1415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ludge diges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1760" y="4556160"/>
              <a:ext cx="149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ctivated slud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5240" y="4840200"/>
              <a:ext cx="903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ir pum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4600" y="4349880"/>
              <a:ext cx="128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kills bacteri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23080" y="3754440"/>
              <a:ext cx="12412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o river, lake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r oce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08760" y="5896080"/>
              <a:ext cx="1616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ludge drying b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1320" y="6191280"/>
              <a:ext cx="24757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posed of in landfill 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cean or applied to cropland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asture, or rangela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351000" y="2403360"/>
              <a:ext cx="3035160" cy="390240"/>
              <a:chOff x="351000" y="2403360"/>
              <a:chExt cx="3035160" cy="390240"/>
            </a:xfrm>
          </p:grpSpPr>
          <p:sp>
            <p:nvSpPr>
              <p:cNvPr id="370" name=""/>
              <p:cNvSpPr/>
              <p:nvPr/>
            </p:nvSpPr>
            <p:spPr>
              <a:xfrm flipV="1">
                <a:off x="351000" y="2545200"/>
                <a:ext cx="0" cy="24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51000" y="2545200"/>
                <a:ext cx="30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3386160" y="2545200"/>
                <a:ext cx="0" cy="24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830240" y="2403360"/>
                <a:ext cx="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657600" y="2395080"/>
              <a:ext cx="3276720" cy="398520"/>
              <a:chOff x="3657600" y="2395080"/>
              <a:chExt cx="3276720" cy="398520"/>
            </a:xfrm>
          </p:grpSpPr>
          <p:sp>
            <p:nvSpPr>
              <p:cNvPr id="375" name=""/>
              <p:cNvSpPr/>
              <p:nvPr/>
            </p:nvSpPr>
            <p:spPr>
              <a:xfrm flipV="1">
                <a:off x="3657600" y="254592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6934320" y="254592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657600" y="2545920"/>
                <a:ext cx="326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5235840" y="239508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1435320" y="2130480"/>
              <a:ext cx="793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26800" y="2119320"/>
              <a:ext cx="1022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28680" y="3728880"/>
              <a:ext cx="0" cy="4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6360" y="361008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30240" y="36100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87880" y="361008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54560" y="36100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80160" y="3610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89680" y="3610080"/>
              <a:ext cx="86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92400" y="451332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973680" y="4491000"/>
              <a:ext cx="65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789360" y="5199120"/>
              <a:ext cx="65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8600" y="5961240"/>
              <a:ext cx="78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481200" y="4332240"/>
              <a:ext cx="36396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3800" y="626112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. 19.15, p. 4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Advanced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0" y="1481040"/>
            <a:ext cx="6613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ves specific pollut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98640" y="2203560"/>
            <a:ext cx="7111080" cy="4655880"/>
            <a:chOff x="998640" y="2203560"/>
            <a:chExt cx="7111080" cy="4655880"/>
          </a:xfrm>
        </p:grpSpPr>
        <p:grpSp>
          <p:nvGrpSpPr>
            <p:cNvPr id="398" name=""/>
            <p:cNvGrpSpPr/>
            <p:nvPr/>
          </p:nvGrpSpPr>
          <p:grpSpPr>
            <a:xfrm>
              <a:off x="998640" y="2203560"/>
              <a:ext cx="7075440" cy="4655880"/>
              <a:chOff x="998640" y="2203560"/>
              <a:chExt cx="7075440" cy="4655880"/>
            </a:xfrm>
          </p:grpSpPr>
          <p:sp>
            <p:nvSpPr>
              <p:cNvPr id="399" name=""/>
              <p:cNvSpPr/>
              <p:nvPr/>
            </p:nvSpPr>
            <p:spPr>
              <a:xfrm>
                <a:off x="998640" y="2203560"/>
                <a:ext cx="7075440" cy="465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1920" y="2932200"/>
                <a:ext cx="6672240" cy="39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1" name=""/>
            <p:cNvSpPr/>
            <p:nvPr/>
          </p:nvSpPr>
          <p:spPr>
            <a:xfrm>
              <a:off x="1102320" y="2363760"/>
              <a:ext cx="11286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ffluent fr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24440" y="2363760"/>
              <a:ext cx="129312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cc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us sedi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4280" y="2508120"/>
              <a:ext cx="867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72120" y="2363760"/>
              <a:ext cx="1634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al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lectrodi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 reverse osmos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83040" y="2508120"/>
              <a:ext cx="767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t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m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1480" y="2217600"/>
              <a:ext cx="10144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aliz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m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DT, etc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02600" y="3924360"/>
              <a:ext cx="1471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8%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spended soli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%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27640" y="4876920"/>
              <a:ext cx="88632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8%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sol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gan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77680" y="4950000"/>
              <a:ext cx="12780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s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solved sal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92160" y="6186600"/>
              <a:ext cx="13953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ycled to 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irrig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ferti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95560" y="338148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82840" y="338148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57720" y="338148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97640" y="338148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18440" y="338148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00960" y="3381480"/>
              <a:ext cx="2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77960" y="4170240"/>
              <a:ext cx="1931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rivers, lak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eams, ocean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ervoirs, or indus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8" name=""/>
            <p:cNvCxnSpPr/>
            <p:nvPr/>
          </p:nvCxnSpPr>
          <p:spPr>
            <a:xfrm rot="5400000">
              <a:off x="7085160" y="3447000"/>
              <a:ext cx="808920" cy="71208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9" name=""/>
            <p:cNvSpPr/>
            <p:nvPr/>
          </p:nvSpPr>
          <p:spPr>
            <a:xfrm>
              <a:off x="2874960" y="382428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60720" y="382428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95800" y="382428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30440" y="5487840"/>
              <a:ext cx="108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83360" y="3881520"/>
              <a:ext cx="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57640" y="597852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384800" y="638172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50700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9.16, p. 4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Using Wetlands to Treat Sewag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29040" y="1434960"/>
            <a:ext cx="8247600" cy="5451120"/>
            <a:chOff x="329040" y="1434960"/>
            <a:chExt cx="8247600" cy="5451120"/>
          </a:xfrm>
        </p:grpSpPr>
        <p:grpSp>
          <p:nvGrpSpPr>
            <p:cNvPr id="430" name=""/>
            <p:cNvGrpSpPr/>
            <p:nvPr/>
          </p:nvGrpSpPr>
          <p:grpSpPr>
            <a:xfrm>
              <a:off x="342720" y="2390400"/>
              <a:ext cx="8218440" cy="3064320"/>
              <a:chOff x="342720" y="2390400"/>
              <a:chExt cx="8218440" cy="3064320"/>
            </a:xfrm>
          </p:grpSpPr>
          <p:pic>
            <p:nvPicPr>
              <p:cNvPr id="4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040" y="2390400"/>
                <a:ext cx="8214120" cy="30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"/>
              <p:cNvSpPr/>
              <p:nvPr/>
            </p:nvSpPr>
            <p:spPr>
              <a:xfrm>
                <a:off x="342720" y="5440680"/>
                <a:ext cx="82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342720" y="2599920"/>
                <a:ext cx="0" cy="28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8555040" y="2599920"/>
                <a:ext cx="0" cy="28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245280" y="2600280"/>
                <a:ext cx="230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42720" y="2600280"/>
                <a:ext cx="21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29040" y="1434960"/>
              <a:ext cx="2146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1)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w sewage drains 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ravity into the first 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flows through a lo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forated PVC pipe i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bed of limestone grave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69240" y="1434960"/>
              <a:ext cx="244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)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Wastewater flows throu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other perforated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o a second pool, w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same process is repeat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2520" y="5879520"/>
              <a:ext cx="26254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2)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Microbes in the limestone gra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reak down the sewage i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hemicals, that can be absorb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y the plant roots, and the gra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bsorbs phosphoru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34960" y="5879520"/>
              <a:ext cx="25538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4)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Treated water flowing from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cond pool is nearly fre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cteria and plant nutrient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eated water can be recyc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r irrigation and flushing toilet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79480" y="4645800"/>
              <a:ext cx="1802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5 centime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 of lime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avel coated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omposing bacte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89840" y="5164920"/>
              <a:ext cx="155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rst concrete 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09960" y="5164920"/>
              <a:ext cx="177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cond concrete 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8440" y="2895480"/>
              <a:ext cx="84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w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69520" y="3450960"/>
              <a:ext cx="128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etlan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48800" y="3450960"/>
              <a:ext cx="128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etlan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52960" y="2994120"/>
              <a:ext cx="82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re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90680" y="1760760"/>
              <a:ext cx="0" cy="158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42760" y="1760400"/>
              <a:ext cx="0" cy="19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54000" y="482364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23440" y="4823640"/>
              <a:ext cx="2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540440" y="5070240"/>
              <a:ext cx="0" cy="79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6072840" y="3724200"/>
              <a:ext cx="1753920" cy="2136600"/>
              <a:chOff x="6072840" y="3724200"/>
              <a:chExt cx="1753920" cy="2136600"/>
            </a:xfrm>
          </p:grpSpPr>
          <p:sp>
            <p:nvSpPr>
              <p:cNvPr id="454" name=""/>
              <p:cNvSpPr/>
              <p:nvPr/>
            </p:nvSpPr>
            <p:spPr>
              <a:xfrm flipV="1">
                <a:off x="7826760" y="3724200"/>
                <a:ext cx="0" cy="182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072840" y="5552280"/>
                <a:ext cx="175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072840" y="5552280"/>
                <a:ext cx="0" cy="30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>
            <a:off x="7078680" y="1971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17, p. 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rinking Water Qual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589200"/>
            <a:ext cx="35686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fe Drinking Water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865840"/>
            <a:ext cx="6586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ximum contaminan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801800"/>
            <a:ext cx="3349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tl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967120" y="1576440"/>
            <a:ext cx="6164280" cy="4379760"/>
            <a:chOff x="2967120" y="1576440"/>
            <a:chExt cx="6164280" cy="4379760"/>
          </a:xfrm>
        </p:grpSpPr>
        <p:sp>
          <p:nvSpPr>
            <p:cNvPr id="464" name=""/>
            <p:cNvSpPr/>
            <p:nvPr/>
          </p:nvSpPr>
          <p:spPr>
            <a:xfrm>
              <a:off x="2967120" y="1576440"/>
              <a:ext cx="6164280" cy="437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5" name="" descr=""/>
            <p:cNvPicPr/>
            <p:nvPr/>
          </p:nvPicPr>
          <p:blipFill>
            <a:blip r:embed="rId1"/>
            <a:stretch/>
          </p:blipFill>
          <p:spPr>
            <a:xfrm>
              <a:off x="3038400" y="1598400"/>
              <a:ext cx="6016680" cy="37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067200" y="5113080"/>
              <a:ext cx="2552400" cy="78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039120" y="4876560"/>
              <a:ext cx="2593800" cy="1014840"/>
              <a:chOff x="3039120" y="4876560"/>
              <a:chExt cx="2593800" cy="101484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3144960" y="5185800"/>
                <a:ext cx="318960" cy="635760"/>
                <a:chOff x="3144960" y="5185800"/>
                <a:chExt cx="318960" cy="635760"/>
              </a:xfrm>
            </p:grpSpPr>
            <p:pic>
              <p:nvPicPr>
                <p:cNvPr id="46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4960" y="5190480"/>
                  <a:ext cx="318960" cy="63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0" name=""/>
                <p:cNvSpPr/>
                <p:nvPr/>
              </p:nvSpPr>
              <p:spPr>
                <a:xfrm>
                  <a:off x="3144960" y="5185800"/>
                  <a:ext cx="315360" cy="156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144960" y="5421600"/>
                  <a:ext cx="315360" cy="156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44960" y="5657040"/>
                  <a:ext cx="315360" cy="157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451320" y="51112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 to 20 perc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49520" y="5352480"/>
                <a:ext cx="2183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reater than 20 perc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53840" y="5584320"/>
                <a:ext cx="105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ot test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039120" y="4876560"/>
                <a:ext cx="233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aminated Prob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10, p. 4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680" y="1494000"/>
            <a:ext cx="8864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, sources, and effects of water pollu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680" y="2584440"/>
            <a:ext cx="860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surfac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9680" y="3676680"/>
            <a:ext cx="8732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ground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9680" y="4768920"/>
            <a:ext cx="844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tion and prevention of water 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800" y="5861160"/>
            <a:ext cx="4633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inking wate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ypes and Sources of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0" y="1650960"/>
            <a:ext cx="352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" y="25192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87600"/>
            <a:ext cx="4572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oxygen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60" y="4740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45120" y="2093760"/>
            <a:ext cx="3717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Tables 19-1 and 19-2 p. 477 and 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02760" y="3319560"/>
            <a:ext cx="5303880" cy="3186000"/>
            <a:chOff x="3902760" y="3319560"/>
            <a:chExt cx="5303880" cy="31860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5041800" y="3960720"/>
              <a:ext cx="372600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340160" y="3319560"/>
              <a:ext cx="828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77600" y="4003560"/>
              <a:ext cx="6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68520" y="40798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-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53040" y="3319560"/>
              <a:ext cx="1707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o (ppm) at 20˚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50800" y="4390920"/>
              <a:ext cx="87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light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ll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2760" y="4884840"/>
              <a:ext cx="112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rat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ll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49360" y="5396040"/>
              <a:ext cx="87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eavi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ll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49360" y="5911920"/>
              <a:ext cx="87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v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ll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2280" y="45813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7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27120" y="50925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5-6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69880" y="561672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low 4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54960" y="614196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low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2, p. 4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103320" y="1252440"/>
            <a:ext cx="371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xygen sa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38440" y="1252440"/>
            <a:ext cx="561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influencing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1680" y="1776240"/>
            <a:ext cx="8966160" cy="5085720"/>
            <a:chOff x="31680" y="1776240"/>
            <a:chExt cx="8966160" cy="50857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757080" y="2228760"/>
              <a:ext cx="8240760" cy="43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33000" y="177624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lea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39240" y="1776240"/>
              <a:ext cx="1465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com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7960" y="1776240"/>
              <a:ext cx="118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ptic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8120" y="1776240"/>
              <a:ext cx="145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covery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05400" y="177624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lea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2480" y="2386080"/>
              <a:ext cx="224280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mal clean water organis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rout, perch, bas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fly, stonefl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52800" y="2386080"/>
              <a:ext cx="877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sh fi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arp, ga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ech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75920" y="2386080"/>
              <a:ext cx="14320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sh absent, fungi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ludge worm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anaerobic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51640" y="2386080"/>
              <a:ext cx="877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sh fi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arp, ga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ech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54240" y="2386080"/>
              <a:ext cx="224280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mal clean water organis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rout, perch, bas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fly, stonefl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00" y="2959200"/>
              <a:ext cx="70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 p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42120" y="3232080"/>
              <a:ext cx="169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solved oxy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400" y="4489560"/>
              <a:ext cx="17046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logical oxy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0560" y="3873600"/>
              <a:ext cx="1189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gen s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61480" y="4556160"/>
              <a:ext cx="70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p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34920" y="2959200"/>
              <a:ext cx="70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 p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-507600" y="4224600"/>
              <a:ext cx="138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58720" y="3271320"/>
              <a:ext cx="0" cy="227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10440" y="2530080"/>
              <a:ext cx="10814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ype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rganis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83360" y="6689880"/>
              <a:ext cx="93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34480" y="6554880"/>
              <a:ext cx="26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 of distance 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8880" y="5321160"/>
              <a:ext cx="1819080" cy="492120"/>
            </a:xfrm>
            <a:prstGeom prst="rightArrow">
              <a:avLst>
                <a:gd name="adj1" fmla="val 50000"/>
                <a:gd name="adj2" fmla="val 92410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rection of 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2600" y="5851440"/>
              <a:ext cx="1617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 of waste 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t dischar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526840" y="622296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54380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3, p. 4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53640" y="1673280"/>
            <a:ext cx="337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utroph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2560" y="2563920"/>
            <a:ext cx="2962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turno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52560" y="3943440"/>
            <a:ext cx="2921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mal stra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33880" y="1654200"/>
            <a:ext cx="5833800" cy="4246560"/>
            <a:chOff x="3233880" y="1654200"/>
            <a:chExt cx="5833800" cy="42465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233880" y="1654200"/>
              <a:ext cx="5833800" cy="4197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14" name=""/>
            <p:cNvSpPr/>
            <p:nvPr/>
          </p:nvSpPr>
          <p:spPr>
            <a:xfrm>
              <a:off x="3338280" y="1668600"/>
              <a:ext cx="173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harge of untre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 sew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nitrates and phosphat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28080" y="1739880"/>
              <a:ext cx="145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trogen compo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ed by c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d facto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34960" y="3908520"/>
              <a:ext cx="1688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harge of tre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 sew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primary and second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eatment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trates and phosphat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57720" y="3138480"/>
              <a:ext cx="101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harge o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terg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 phosphat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77920" y="3054240"/>
              <a:ext cx="101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tural run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nitrate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osph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01920" y="3578400"/>
              <a:ext cx="1032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ure run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om feedl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nitrate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osphate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moni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3240" y="5259600"/>
              <a:ext cx="1752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solving o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trogen oxi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from internal combus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gines and furnac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24920" y="5187960"/>
              <a:ext cx="1526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unoff and ero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from from cultivation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ning, construction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d poor land us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62120" y="4415040"/>
              <a:ext cx="1631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unoff from street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wns, and constr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ts (nitrate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osphat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0600" y="4633920"/>
              <a:ext cx="1300680" cy="64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ke eco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utrient over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d breakdown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 cyc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67440" y="2370240"/>
              <a:ext cx="179280" cy="455400"/>
            </a:xfrm>
            <a:prstGeom prst="downArrow">
              <a:avLst>
                <a:gd name="adj1" fmla="val 50000"/>
                <a:gd name="adj2" fmla="val 63504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8900000">
              <a:off x="5668560" y="2720520"/>
              <a:ext cx="179280" cy="455760"/>
            </a:xfrm>
            <a:prstGeom prst="downArrow">
              <a:avLst>
                <a:gd name="adj1" fmla="val 50000"/>
                <a:gd name="adj2" fmla="val 63554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8900000">
              <a:off x="4951440" y="2985840"/>
              <a:ext cx="179280" cy="554040"/>
            </a:xfrm>
            <a:prstGeom prst="downArrow">
              <a:avLst>
                <a:gd name="adj1" fmla="val 50000"/>
                <a:gd name="adj2" fmla="val 77259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5560" y="3681360"/>
              <a:ext cx="505080" cy="187560"/>
            </a:xfrm>
            <a:prstGeom prst="rightArrow">
              <a:avLst>
                <a:gd name="adj1" fmla="val 50000"/>
                <a:gd name="adj2" fmla="val 67322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07000" y="4975200"/>
              <a:ext cx="504720" cy="187560"/>
            </a:xfrm>
            <a:prstGeom prst="rightArrow">
              <a:avLst>
                <a:gd name="adj1" fmla="val 50000"/>
                <a:gd name="adj2" fmla="val 67274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205760" y="4991040"/>
              <a:ext cx="504720" cy="187560"/>
            </a:xfrm>
            <a:prstGeom prst="rightArrow">
              <a:avLst>
                <a:gd name="adj1" fmla="val 50000"/>
                <a:gd name="adj2" fmla="val 67274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707880" y="4152960"/>
              <a:ext cx="505080" cy="187200"/>
            </a:xfrm>
            <a:prstGeom prst="rightArrow">
              <a:avLst>
                <a:gd name="adj1" fmla="val 50000"/>
                <a:gd name="adj2" fmla="val 67452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734160" y="3452760"/>
              <a:ext cx="503280" cy="187560"/>
            </a:xfrm>
            <a:prstGeom prst="rightArrow">
              <a:avLst>
                <a:gd name="adj1" fmla="val 50000"/>
                <a:gd name="adj2" fmla="val 67083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2700000">
              <a:off x="6579720" y="2777760"/>
              <a:ext cx="179640" cy="455760"/>
            </a:xfrm>
            <a:prstGeom prst="downArrow">
              <a:avLst>
                <a:gd name="adj1" fmla="val 50000"/>
                <a:gd name="adj2" fmla="val 63427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5, p. 4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The Great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01480" y="1224000"/>
            <a:ext cx="8172360" cy="5570640"/>
            <a:chOff x="501480" y="1224000"/>
            <a:chExt cx="8172360" cy="5570640"/>
          </a:xfrm>
        </p:grpSpPr>
        <p:grpSp>
          <p:nvGrpSpPr>
            <p:cNvPr id="137" name=""/>
            <p:cNvGrpSpPr/>
            <p:nvPr/>
          </p:nvGrpSpPr>
          <p:grpSpPr>
            <a:xfrm>
              <a:off x="501480" y="1224000"/>
              <a:ext cx="8172360" cy="5570640"/>
              <a:chOff x="501480" y="1224000"/>
              <a:chExt cx="8172360" cy="557064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501480" y="1224000"/>
                <a:ext cx="8172360" cy="5570640"/>
                <a:chOff x="501480" y="1224000"/>
                <a:chExt cx="8172360" cy="5570640"/>
              </a:xfrm>
            </p:grpSpPr>
            <p:pic>
              <p:nvPicPr>
                <p:cNvPr id="13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3000" y="1224000"/>
                  <a:ext cx="8160840" cy="5570640"/>
                </a:xfrm>
                <a:prstGeom prst="rect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501480" y="5765400"/>
                  <a:ext cx="8163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857960" y="5883480"/>
                <a:ext cx="282600" cy="766080"/>
                <a:chOff x="1857960" y="5883480"/>
                <a:chExt cx="282600" cy="7660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857960" y="5883480"/>
                  <a:ext cx="282600" cy="117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857960" y="6531840"/>
                  <a:ext cx="282600" cy="117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2159640" y="5832360"/>
              <a:ext cx="217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at Lakes drainage bas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59280" y="6045120"/>
              <a:ext cx="531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st polluted areas, according to the Great Lakes Water Quality Bo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61800" y="6256440"/>
              <a:ext cx="449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t spots” of toxic concentrations in water and sedi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1800" y="646920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trophic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1040" y="1468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8680" y="3498840"/>
              <a:ext cx="120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SCONS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520" y="42084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NESO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9920" y="4950000"/>
              <a:ext cx="6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O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90600" y="526896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LLINO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83560" y="5386320"/>
              <a:ext cx="9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7960" y="54100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H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86080" y="4938840"/>
              <a:ext cx="157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NNSYLVAN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76080" y="406548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000" y="3827520"/>
              <a:ext cx="10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HIG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68360" y="3144960"/>
              <a:ext cx="10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HIG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87760" y="2044800"/>
              <a:ext cx="91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pigon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89320" y="2233440"/>
              <a:ext cx="95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hunder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05120" y="271764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lver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200" y="3070080"/>
              <a:ext cx="87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. Louis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30040" y="2198520"/>
              <a:ext cx="95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ackfish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0400" y="2849400"/>
              <a:ext cx="93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. Mary’s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88160" y="301320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panish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87760" y="3222720"/>
              <a:ext cx="98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netary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1720" y="3495600"/>
              <a:ext cx="100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urgeon 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36440" y="3944880"/>
              <a:ext cx="694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gin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72760" y="4145040"/>
              <a:ext cx="82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aginaw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18040" y="44388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t. Clair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5440" y="4568760"/>
              <a:ext cx="714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etroit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Rouge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Raisin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06160" y="5016600"/>
              <a:ext cx="83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Maumee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58040" y="521820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Black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96880" y="5148360"/>
              <a:ext cx="69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Rocky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6320" y="5005440"/>
              <a:ext cx="91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Cuyahoga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46720" y="4853160"/>
              <a:ext cx="90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shtabula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54960" y="4451400"/>
              <a:ext cx="79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Thames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55560" y="414504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Grand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72120" y="40971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agara Fal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10640" y="430992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iagara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63400" y="4451400"/>
              <a:ext cx="77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Buffalo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8600" y="2894040"/>
              <a:ext cx="108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t. Lawrence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202520" y="6504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9.7, p. 4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water Pollution:  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840" y="1521000"/>
            <a:ext cx="352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flow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4560" y="2219400"/>
            <a:ext cx="2228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w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76720" y="1519200"/>
            <a:ext cx="457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ld temper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01920" y="2151000"/>
            <a:ext cx="6740640" cy="4707000"/>
            <a:chOff x="2401920" y="2151000"/>
            <a:chExt cx="6740640" cy="4707000"/>
          </a:xfrm>
        </p:grpSpPr>
        <p:grpSp>
          <p:nvGrpSpPr>
            <p:cNvPr id="190" name=""/>
            <p:cNvGrpSpPr/>
            <p:nvPr/>
          </p:nvGrpSpPr>
          <p:grpSpPr>
            <a:xfrm>
              <a:off x="2401920" y="2151000"/>
              <a:ext cx="6652800" cy="4707000"/>
              <a:chOff x="2401920" y="2151000"/>
              <a:chExt cx="6652800" cy="4707000"/>
            </a:xfrm>
          </p:grpSpPr>
          <p:pic>
            <p:nvPicPr>
              <p:cNvPr id="1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6600" y="2151000"/>
                <a:ext cx="6648120" cy="470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2401920" y="2165760"/>
                <a:ext cx="6640200" cy="4683240"/>
                <a:chOff x="2401920" y="2165760"/>
                <a:chExt cx="6640200" cy="4683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401920" y="6191640"/>
                  <a:ext cx="517320" cy="65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919240" y="6849000"/>
                  <a:ext cx="6122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9042120" y="2175840"/>
                  <a:ext cx="0" cy="46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421000" y="2166120"/>
                  <a:ext cx="6620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2401920" y="2165760"/>
                  <a:ext cx="0" cy="401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3263760" y="2603520"/>
              <a:ext cx="1232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ste lagoon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nd, or bas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68760" y="2984400"/>
              <a:ext cx="6714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9560" y="3841920"/>
              <a:ext cx="8330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m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1520" y="3413160"/>
              <a:ext cx="8236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m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37320" y="3922560"/>
              <a:ext cx="631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w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3680" y="4305240"/>
              <a:ext cx="860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sspoll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pt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45920" y="2975040"/>
              <a:ext cx="1003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zardo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j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47920" y="3639960"/>
              <a:ext cx="13266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ried gaso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solv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3680" y="406728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dfi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53200" y="391176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5600" y="5054760"/>
              <a:ext cx="2386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confined freshwater aqui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53280" y="5722920"/>
              <a:ext cx="22075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fined freshwater aqui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53680" y="6553080"/>
              <a:ext cx="1392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fined aqui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17960" y="6472080"/>
              <a:ext cx="919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73800" y="4981680"/>
              <a:ext cx="96876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k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om faul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7737480" y="4959360"/>
              <a:ext cx="417600" cy="685440"/>
              <a:chOff x="7737480" y="4959360"/>
              <a:chExt cx="417600" cy="685440"/>
            </a:xfrm>
          </p:grpSpPr>
          <p:sp>
            <p:nvSpPr>
              <p:cNvPr id="214" name=""/>
              <p:cNvSpPr/>
              <p:nvPr/>
            </p:nvSpPr>
            <p:spPr>
              <a:xfrm>
                <a:off x="7737480" y="4959360"/>
                <a:ext cx="417600" cy="26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7741800" y="5234400"/>
                <a:ext cx="407880" cy="41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3760920" y="5280120"/>
              <a:ext cx="113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und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58400" y="6026040"/>
              <a:ext cx="147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undwater 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347640" y="6180120"/>
              <a:ext cx="436680" cy="19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321000" y="5389560"/>
              <a:ext cx="46368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200400" y="4379760"/>
              <a:ext cx="0" cy="12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364440" y="4070520"/>
              <a:ext cx="0" cy="86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13520" y="3979080"/>
              <a:ext cx="0" cy="97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06800" y="3440160"/>
              <a:ext cx="0" cy="4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876840" y="3058920"/>
              <a:ext cx="0" cy="11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7796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9.9, p. 4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oundwater Pollution Preven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120" y="1536840"/>
            <a:ext cx="501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nitoring aquif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8560" y="2536920"/>
            <a:ext cx="562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ak detec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4600" y="3537000"/>
            <a:ext cx="8448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ctly regulating hazardous waste dispo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4600" y="5146560"/>
            <a:ext cx="8226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ing hazardous materials abov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8840" y="1230480"/>
            <a:ext cx="8124840" cy="562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11280" y="2276640"/>
            <a:ext cx="5454720" cy="3868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6920" y="1258920"/>
            <a:ext cx="185724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itrogen oxides from au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mokestacks; tox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micals, and heav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als in effluents fl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o bays and estua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6440" y="1258920"/>
            <a:ext cx="13755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xic metal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il from stree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king lots poll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s; sew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s nitrogen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osphor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56280" y="1258920"/>
            <a:ext cx="14882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ban spraw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teria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ruses from sew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eptic tan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minate shellfi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ds and clo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ches; runo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fertilization f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wns adds nitro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phosphor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21480" y="1379520"/>
            <a:ext cx="2611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11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diments are washed into waterway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oking fish and plants, clou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s, and blocking sunligh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70800" y="2063880"/>
            <a:ext cx="231876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un off of pesticides, manure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rtilizers adds toxins and ex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itrogen and phosphor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02200" y="2784600"/>
            <a:ext cx="246384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 ti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cess nitrogen causes explos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owth of toxic microscopic alga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isoning fish and marine mamma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08920" y="5532480"/>
            <a:ext cx="23266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althy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ear, oxygen-rich wa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mote growth of plankt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ea grasses, and support fis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90840" y="5834160"/>
            <a:ext cx="24577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xygen-depleted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dimentation and alga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growth reduce sunligh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ill beneficial sea grass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 up oxygen, and degrade habita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9480" y="4397400"/>
            <a:ext cx="188604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xic sedi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micals and toxic met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minate shellfish be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ill spawning fish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umulate in the tiss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bottom feed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179360" y="2292120"/>
            <a:ext cx="671760" cy="554400"/>
            <a:chOff x="1179360" y="2292120"/>
            <a:chExt cx="671760" cy="554400"/>
          </a:xfrm>
        </p:grpSpPr>
        <p:sp>
          <p:nvSpPr>
            <p:cNvPr id="245" name=""/>
            <p:cNvSpPr/>
            <p:nvPr/>
          </p:nvSpPr>
          <p:spPr>
            <a:xfrm flipH="1">
              <a:off x="1179360" y="2846520"/>
              <a:ext cx="6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179360" y="2292120"/>
              <a:ext cx="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788920" y="2387520"/>
            <a:ext cx="352440" cy="106560"/>
            <a:chOff x="2788920" y="2387520"/>
            <a:chExt cx="352440" cy="106560"/>
          </a:xfrm>
        </p:grpSpPr>
        <p:sp>
          <p:nvSpPr>
            <p:cNvPr id="248" name=""/>
            <p:cNvSpPr/>
            <p:nvPr/>
          </p:nvSpPr>
          <p:spPr>
            <a:xfrm flipH="1">
              <a:off x="2788920" y="249408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789280" y="23875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684600" y="1460160"/>
            <a:ext cx="564840" cy="1290960"/>
            <a:chOff x="3684600" y="1460160"/>
            <a:chExt cx="564840" cy="1290960"/>
          </a:xfrm>
        </p:grpSpPr>
        <p:sp>
          <p:nvSpPr>
            <p:cNvPr id="251" name=""/>
            <p:cNvSpPr/>
            <p:nvPr/>
          </p:nvSpPr>
          <p:spPr>
            <a:xfrm>
              <a:off x="3684600" y="2751120"/>
              <a:ext cx="38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068360" y="146016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68360" y="1460520"/>
              <a:ext cx="1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929040" y="1460520"/>
            <a:ext cx="1801800" cy="1406520"/>
            <a:chOff x="3929040" y="1460520"/>
            <a:chExt cx="1801800" cy="1406520"/>
          </a:xfrm>
        </p:grpSpPr>
        <p:sp>
          <p:nvSpPr>
            <p:cNvPr id="255" name=""/>
            <p:cNvSpPr/>
            <p:nvPr/>
          </p:nvSpPr>
          <p:spPr>
            <a:xfrm>
              <a:off x="3929040" y="2867040"/>
              <a:ext cx="167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603040" y="1471320"/>
              <a:ext cx="0" cy="13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03040" y="146052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300480" y="2142720"/>
            <a:ext cx="2482560" cy="821160"/>
            <a:chOff x="3300480" y="2142720"/>
            <a:chExt cx="2482560" cy="821160"/>
          </a:xfrm>
        </p:grpSpPr>
        <p:sp>
          <p:nvSpPr>
            <p:cNvPr id="259" name=""/>
            <p:cNvSpPr/>
            <p:nvPr/>
          </p:nvSpPr>
          <p:spPr>
            <a:xfrm>
              <a:off x="3300480" y="2963880"/>
              <a:ext cx="23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676840" y="214272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76840" y="214308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1680" y="2878200"/>
            <a:ext cx="2088720" cy="436680"/>
            <a:chOff x="3811680" y="2878200"/>
            <a:chExt cx="2088720" cy="436680"/>
          </a:xfrm>
        </p:grpSpPr>
        <p:sp>
          <p:nvSpPr>
            <p:cNvPr id="263" name=""/>
            <p:cNvSpPr/>
            <p:nvPr/>
          </p:nvSpPr>
          <p:spPr>
            <a:xfrm>
              <a:off x="3811680" y="3314880"/>
              <a:ext cx="200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815440" y="2878200"/>
              <a:ext cx="0" cy="4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25880" y="2878200"/>
              <a:ext cx="7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886920" y="3005280"/>
            <a:ext cx="11163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ellfish be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80080" y="3208320"/>
            <a:ext cx="6469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94240" y="3336840"/>
            <a:ext cx="131760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xygen-deple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481200" y="3517920"/>
            <a:ext cx="852480" cy="2046240"/>
            <a:chOff x="3481200" y="3517920"/>
            <a:chExt cx="852480" cy="2046240"/>
          </a:xfrm>
        </p:grpSpPr>
        <p:sp>
          <p:nvSpPr>
            <p:cNvPr id="270" name=""/>
            <p:cNvSpPr/>
            <p:nvPr/>
          </p:nvSpPr>
          <p:spPr>
            <a:xfrm>
              <a:off x="4142160" y="3517920"/>
              <a:ext cx="191520" cy="191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37920" y="3720240"/>
              <a:ext cx="0" cy="18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481200" y="5564160"/>
              <a:ext cx="75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894360" y="6570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9.11, p. 4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Christine Pramuk</cp:lastModifiedBy>
  <dcterms:modified xsi:type="dcterms:W3CDTF">2001-07-26T04:21:27Z</dcterms:modified>
  <cp:revision>73</cp:revision>
  <dc:subject/>
  <dc:title>PowerPoint Presentation</dc:title>
</cp:coreProperties>
</file>